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F83-A8AF-4C62-BA7F-7E4B8CFF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5D9-0BB2-4B53-869C-B80E8E95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BE8-C460-429B-B437-E7A47111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C4E-8E5E-4AB8-A24F-FC283CDC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730F-B854-429F-90DA-0C4D1DAC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C27A-5B00-49C2-BF6A-F047F6A6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17CE-F57C-491F-A705-6F5C57DB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3CF9-4533-4F4F-A594-4BA05781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DB58-AF0A-4F3B-B63B-852ADC65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E1B1-D6B7-4700-811E-2BE52862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E727-61BA-4D72-A54B-6052D86F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4D8-7E89-4291-ACBF-165D0E0B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9015-90BD-4757-9C90-DFA6DAA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48B6-1D34-4227-918B-427CA279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7310-AC0D-4FD4-9328-FC281BE8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B3E6-B952-4AFA-B363-2D86E606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FBDF-132A-42BA-9F64-0016ACB5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9C2-7170-44CE-B2F5-3E27BEC8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FAB-886B-4E98-8BFE-9BC74E09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EBC-35EE-494D-9EC3-8A00FB9A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448-548A-4527-89CF-C82023F0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C52-C17A-4275-8921-BD54B91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9AB-685B-4B28-84E7-CCBB807B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0F9-469A-479B-86D1-7642909B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0E6B-2F48-44A8-B555-9437816177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9CB3-566F-4EAB-A691-424D655DD7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544680"/>
            <a:ext cx="8229600" cy="5398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esigner Babie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designer bab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child created from the artificial selection of genetic characteristics to prevent genetic disorders and select healthy embryo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20310000">
            <a:off x="3123720" y="2895120"/>
            <a:ext cx="313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are designer babies creat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 embryo is created by in-vitro fertiliza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ngle cell is removed from that embryo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embryo is genetically screen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parents then decide whether to dispose the embryo or implant it in the mother's uteru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64804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-implantation Genetic Diagn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creens for genetic diseases or conditio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eates a healthy baby to treat a sick sibl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also possible to the sex of a future chil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20245200">
            <a:off x="4647960" y="4038120"/>
            <a:ext cx="3071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eats the child as a commod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sidered mu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idens the gap between the wealthy and poo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sire for perfe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19880" y="2209680"/>
            <a:ext cx="30146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day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2005, the British government allowed its scientists to create experiments that could creating the first genetically altered bab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1673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5:15:13Z</dcterms:created>
  <dc:creator>Carlos Omar Rios</dc:creator>
  <dc:description/>
  <dc:language>en-US</dc:language>
  <cp:lastModifiedBy>Carlos Omar Rios</cp:lastModifiedBy>
  <dcterms:modified xsi:type="dcterms:W3CDTF">2006-04-28T17:04:36Z</dcterms:modified>
  <cp:revision>4</cp:revision>
  <dc:subject/>
  <dc:title>Designer Babies</dc:title>
</cp:coreProperties>
</file>